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0F1-5B9B-4F89-A55F-D790D5E6B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www.mathsrevisi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EA2-70FC-453B-A40F-9479EB912D51}" type="datetime">
              <a:rPr b="0" lang="en-US" sz="12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www.mathsrevisi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0EC-84B5-42C4-B22D-CE0F9C670E1C}" type="slidenum">
              <a:rPr b="0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have derived the general equation of any circle with centre (a,b) and radius ®, this is given at the top of the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can re-write this equation into a different format given at the bottom of the slid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reason for doing so, is that this format can be much more useful when dealing with certain types of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 get to this equivalent form we multiply out the bracket in our original equ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 we gather each of the different terms togeth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 we equate the LHS of the equation to zero, by subtracting r squared from each 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then we tidy up the equation further by letting g= - a , f = -b and the constant term c = a squared plus b squared minus r squar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is gives us the equivalent form of the general equation at the bottom of the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ote that in this format the centre is given by (-g, -f ) since a=-g and b=-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lso by rearranging the expression for c we can deduce the formula for the radius 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=square root of g2+f2-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A50-92E0-404A-977B-80AB00B8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978-8BE6-4408-83FD-D242158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7CB-CB44-40AB-94AF-729B4988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79C-B6BF-4E0F-908A-E50F6214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8DE2-1D67-4368-A366-66F55685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4C96-B962-4E16-A327-4D32998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1E8-E273-44CF-9F92-618722D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9263-6E1C-4366-A29A-D20B25D6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26B-98F0-478D-82B1-E1B1C71E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6ED6-52FA-4EC1-AB33-64F6E329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3343-B259-4B25-A572-CED31BD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72A-D99E-4E46-BEE0-E43B82AB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384-64E3-4CF5-AB4D-FA475B0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8D4-4629-4AFE-A236-EAA0667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0EE-CAD1-4009-80CD-63FA3E77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374F-98B5-4EAC-B337-A2B9DB85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845B-A611-4E96-A239-61DCB8F2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ABA-75F8-425F-AD4B-F88AD2B8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60B-C965-4B25-B696-DE1AEED1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7B5-067E-4B27-8527-F49F994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779-98FD-4D83-B8D2-06F22BDC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2B1-EB7E-4263-877C-CE2C3AB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042-2747-410A-97A0-F93DA37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5BD-6AF5-4529-A7F1-D1B80D1D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39A-AD70-4722-BB0A-4D074BAD6E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EC7-2B94-4013-ABF3-C5E6F070B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eral equation of a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4x - 6y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4x - 6y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9280" y="28526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6920" y="285264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8360" y="2852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33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99640" y="33577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284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47840" y="39337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2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2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 + 9 - 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684360" y="558972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2,3)  and  radius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2x + 8y + 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2x + 8y + 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9640" y="2852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8360" y="285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2852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6720" y="3357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000" y="33577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3284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47840" y="39337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-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4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4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+ 16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468360" y="558972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-1,-4)  and  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58920" y="1557360"/>
            <a:ext cx="662616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1773360"/>
            <a:ext cx="74516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ge 17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rcise 3A    Q 1,  Q2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327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197000"/>
            <a:ext cx="4105080" cy="1433160"/>
          </a:xfrm>
          <a:prstGeom prst="rect">
            <a:avLst/>
          </a:prstGeom>
          <a:solidFill>
            <a:srgbClr val="b7e7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–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without br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708280"/>
            <a:ext cx="4176720" cy="76464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2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2) + (y – 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 – 3)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213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x + 4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y + 9  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71628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x  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y + 13  - 25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221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2  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429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2a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2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34936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a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a) + (y – b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 – b) =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628640"/>
            <a:ext cx="4176720" cy="52056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92428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2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2by + 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933720"/>
            <a:ext cx="4176720" cy="106956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 , b and r are constants (numbers) then these can be collected together as one term,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084640"/>
            <a:ext cx="442764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981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way we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941720"/>
            <a:ext cx="3816360" cy="1295640"/>
          </a:xfrm>
          <a:prstGeom prst="cloudCallout">
            <a:avLst>
              <a:gd name="adj1" fmla="val 79740"/>
              <a:gd name="adj2" fmla="val -39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his is the general form of the equation of a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1246320" y="3247920"/>
                <a:ext cx="4084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46320" y="2685960"/>
                <a:ext cx="3655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1246320" y="3811680"/>
                <a:ext cx="37414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1393920" y="4483080"/>
                <a:ext cx="3825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24"/>
          <p:cNvSpPr/>
          <p:nvPr/>
        </p:nvSpPr>
        <p:spPr>
          <a:xfrm>
            <a:off x="1117440" y="1719360"/>
            <a:ext cx="7566120" cy="6523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816200" y="1832040"/>
                <a:ext cx="24937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5"/>
          <p:cNvSpPr/>
          <p:nvPr/>
        </p:nvSpPr>
        <p:spPr>
          <a:xfrm flipV="1" rot="10800000">
            <a:off x="4487760" y="18810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entre 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C(a,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995440" y="178596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1286280" y="181764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30"/>
          <p:cNvGrpSpPr/>
          <p:nvPr/>
        </p:nvGrpSpPr>
        <p:grpSpPr>
          <a:xfrm>
            <a:off x="1096920" y="5388120"/>
            <a:ext cx="7566120" cy="652320"/>
            <a:chOff x="1096920" y="5388120"/>
            <a:chExt cx="7566120" cy="652320"/>
          </a:xfrm>
        </p:grpSpPr>
        <p:sp>
          <p:nvSpPr>
            <p:cNvPr id="125" name="Rectangle 22"/>
            <p:cNvSpPr/>
            <p:nvPr/>
          </p:nvSpPr>
          <p:spPr>
            <a:xfrm>
              <a:off x="1096920" y="5388120"/>
              <a:ext cx="7566120" cy="652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9"/>
            <p:cNvGrpSpPr/>
            <p:nvPr/>
          </p:nvGrpSpPr>
          <p:grpSpPr>
            <a:xfrm>
              <a:off x="1803600" y="5460840"/>
              <a:ext cx="6684480" cy="459720"/>
              <a:chOff x="1803600" y="5460840"/>
              <a:chExt cx="6684480" cy="459720"/>
            </a:xfrm>
          </p:grpSpPr>
          <p:sp>
            <p:nvSpPr>
              <p:cNvPr id="127" name="Rectangle 19"/>
              <p:cNvSpPr/>
              <p:nvPr/>
            </p:nvSpPr>
            <p:spPr>
              <a:xfrm>
                <a:off x="6312600" y="5460840"/>
                <a:ext cx="98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Radiu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8" name="Group 21"/>
              <p:cNvGrpSpPr/>
              <p:nvPr/>
            </p:nvGrpSpPr>
            <p:grpSpPr>
              <a:xfrm>
                <a:off x="1803600" y="5501880"/>
                <a:ext cx="6684480" cy="396000"/>
                <a:chOff x="1803600" y="5501880"/>
                <a:chExt cx="6684480" cy="396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29" name="Object 17"/>
                    <p:cNvSpPr txBox="1"/>
                    <p:nvPr/>
                  </p:nvSpPr>
                  <p:spPr>
                    <a:xfrm>
                      <a:off x="1803600" y="5501880"/>
                      <a:ext cx="2751840" cy="39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g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fy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0" name="Rectangle 18"/>
                <p:cNvSpPr/>
                <p:nvPr/>
              </p:nvSpPr>
              <p:spPr>
                <a:xfrm>
                  <a:off x="4862520" y="5551920"/>
                  <a:ext cx="155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Centre  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Comic Sans MS"/>
                    </a:rPr>
                    <a:t>C(-g,-f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1" name="Object 20"/>
                    <p:cNvSpPr txBox="1"/>
                    <p:nvPr/>
                  </p:nvSpPr>
                  <p:spPr>
                    <a:xfrm>
                      <a:off x="7232400" y="5516280"/>
                      <a:ext cx="1255680" cy="381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32" name="Rectangle 28"/>
            <p:cNvSpPr/>
            <p:nvPr/>
          </p:nvSpPr>
          <p:spPr>
            <a:xfrm>
              <a:off x="1295280" y="54705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54"/>
          <p:cNvGrpSpPr/>
          <p:nvPr/>
        </p:nvGrpSpPr>
        <p:grpSpPr>
          <a:xfrm>
            <a:off x="1246320" y="4375080"/>
            <a:ext cx="4533840" cy="1014480"/>
            <a:chOff x="1246320" y="4375080"/>
            <a:chExt cx="4533840" cy="1014480"/>
          </a:xfrm>
        </p:grpSpPr>
        <mc:AlternateContent>
          <mc:Choice xmlns:a14="http://schemas.microsoft.com/office/drawing/2010/main" Requires="a14">
            <p:sp>
              <p:nvSpPr>
                <p:cNvPr id="134" name="Object 14"/>
                <p:cNvSpPr txBox="1"/>
                <p:nvPr/>
              </p:nvSpPr>
              <p:spPr>
                <a:xfrm>
                  <a:off x="1246320" y="4984920"/>
                  <a:ext cx="45338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et    g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-a,    f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-b,     c 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 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35" name="Group 48"/>
            <p:cNvGrpSpPr/>
            <p:nvPr/>
          </p:nvGrpSpPr>
          <p:grpSpPr>
            <a:xfrm>
              <a:off x="3549960" y="4375080"/>
              <a:ext cx="1447200" cy="757080"/>
              <a:chOff x="3549960" y="4375080"/>
              <a:chExt cx="1447200" cy="757080"/>
            </a:xfrm>
          </p:grpSpPr>
          <p:sp>
            <p:nvSpPr>
              <p:cNvPr id="136" name="Oval 35"/>
              <p:cNvSpPr/>
              <p:nvPr/>
            </p:nvSpPr>
            <p:spPr>
              <a:xfrm>
                <a:off x="3549960" y="4375080"/>
                <a:ext cx="1447200" cy="5277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36"/>
              <p:cNvSpPr/>
              <p:nvPr/>
            </p:nvSpPr>
            <p:spPr>
              <a:xfrm flipH="1">
                <a:off x="4188240" y="4902840"/>
                <a:ext cx="38520" cy="229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46"/>
            <p:cNvGrpSpPr/>
            <p:nvPr/>
          </p:nvGrpSpPr>
          <p:grpSpPr>
            <a:xfrm>
              <a:off x="2111400" y="4532400"/>
              <a:ext cx="528480" cy="571680"/>
              <a:chOff x="2111400" y="4532400"/>
              <a:chExt cx="528480" cy="571680"/>
            </a:xfrm>
          </p:grpSpPr>
          <p:sp>
            <p:nvSpPr>
              <p:cNvPr id="139" name="Oval 38"/>
              <p:cNvSpPr/>
              <p:nvPr/>
            </p:nvSpPr>
            <p:spPr>
              <a:xfrm>
                <a:off x="2492280" y="4532400"/>
                <a:ext cx="147600" cy="29052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39"/>
              <p:cNvSpPr/>
              <p:nvPr/>
            </p:nvSpPr>
            <p:spPr>
              <a:xfrm>
                <a:off x="2111400" y="4599360"/>
                <a:ext cx="237960" cy="190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40"/>
              <p:cNvSpPr/>
              <p:nvPr/>
            </p:nvSpPr>
            <p:spPr>
              <a:xfrm>
                <a:off x="2568600" y="4822920"/>
                <a:ext cx="0" cy="2811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41"/>
              <p:cNvSpPr/>
              <p:nvPr/>
            </p:nvSpPr>
            <p:spPr>
              <a:xfrm>
                <a:off x="2316240" y="4775400"/>
                <a:ext cx="209520" cy="31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47"/>
            <p:cNvGrpSpPr/>
            <p:nvPr/>
          </p:nvGrpSpPr>
          <p:grpSpPr>
            <a:xfrm>
              <a:off x="2754360" y="4523040"/>
              <a:ext cx="528480" cy="571320"/>
              <a:chOff x="2754360" y="4523040"/>
              <a:chExt cx="528480" cy="571320"/>
            </a:xfrm>
          </p:grpSpPr>
          <p:sp>
            <p:nvSpPr>
              <p:cNvPr id="144" name="Oval 42"/>
              <p:cNvSpPr/>
              <p:nvPr/>
            </p:nvSpPr>
            <p:spPr>
              <a:xfrm>
                <a:off x="3135240" y="4523040"/>
                <a:ext cx="147600" cy="29052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43"/>
              <p:cNvSpPr/>
              <p:nvPr/>
            </p:nvSpPr>
            <p:spPr>
              <a:xfrm>
                <a:off x="2754360" y="4589640"/>
                <a:ext cx="237960" cy="190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44"/>
              <p:cNvSpPr/>
              <p:nvPr/>
            </p:nvSpPr>
            <p:spPr>
              <a:xfrm>
                <a:off x="3211560" y="4813560"/>
                <a:ext cx="0" cy="280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45"/>
              <p:cNvSpPr/>
              <p:nvPr/>
            </p:nvSpPr>
            <p:spPr>
              <a:xfrm>
                <a:off x="2958840" y="4766040"/>
                <a:ext cx="209880" cy="31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52"/>
          <p:cNvGrpSpPr/>
          <p:nvPr/>
        </p:nvGrpSpPr>
        <p:grpSpPr>
          <a:xfrm>
            <a:off x="5281560" y="2739960"/>
            <a:ext cx="3405240" cy="2530440"/>
            <a:chOff x="5281560" y="2739960"/>
            <a:chExt cx="3405240" cy="2530440"/>
          </a:xfrm>
        </p:grpSpPr>
        <p:grpSp>
          <p:nvGrpSpPr>
            <p:cNvPr id="149" name="Group 34"/>
            <p:cNvGrpSpPr/>
            <p:nvPr/>
          </p:nvGrpSpPr>
          <p:grpSpPr>
            <a:xfrm>
              <a:off x="6667560" y="2739960"/>
              <a:ext cx="2019240" cy="2530440"/>
              <a:chOff x="6667560" y="2739960"/>
              <a:chExt cx="2019240" cy="2530440"/>
            </a:xfrm>
          </p:grpSpPr>
          <mc:AlternateContent>
            <mc:Choice xmlns:a14="http://schemas.microsoft.com/office/drawing/2010/main" Requires="a14">
              <p:sp>
                <p:nvSpPr>
                  <p:cNvPr id="150" name="Object 32"/>
                  <p:cNvSpPr txBox="1"/>
                  <p:nvPr/>
                </p:nvSpPr>
                <p:spPr>
                  <a:xfrm>
                    <a:off x="6796080" y="3187800"/>
                    <a:ext cx="1890720" cy="17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 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 </m:t>
                            </m: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g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  <m:e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ra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1" name="Line 33"/>
              <p:cNvSpPr/>
              <p:nvPr/>
            </p:nvSpPr>
            <p:spPr>
              <a:xfrm>
                <a:off x="6667560" y="2739960"/>
                <a:ext cx="0" cy="253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50"/>
            <p:cNvSpPr/>
            <p:nvPr/>
          </p:nvSpPr>
          <p:spPr>
            <a:xfrm flipV="1">
              <a:off x="5281560" y="3471840"/>
              <a:ext cx="1514520" cy="172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92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55840" y="191628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068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d on the point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8760" y="401940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440" y="460692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1760" y="519264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88560" y="57801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927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en the equatio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circle is given in the fo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55840" y="388620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+ 4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– 6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8816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by rearranging the equation so tha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ms and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ms are tog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34000" y="578016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145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922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 can use the method of completing the square to write it in th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8760" y="288936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66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3080" y="328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 can complete the square for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terms and then for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term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0081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quation of the circle can now be written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22120" y="186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65200" y="1863720"/>
            <a:ext cx="16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840" y="24354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243540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42120" y="3699000"/>
            <a:ext cx="44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4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9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76440" y="42703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5360" y="484344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88560" y="55641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) and the radius i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40" y="76500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093080" y="4869000"/>
            <a:ext cx="187164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981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range to get in the general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28920" y="126828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2600" y="285264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  4x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 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+ 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7080" y="3500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280" y="350028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350028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206064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0" y="2276640"/>
            <a:ext cx="503280" cy="1081080"/>
          </a:xfrm>
          <a:prstGeom prst="ellipse">
            <a:avLst/>
          </a:prstGeom>
          <a:solidFill>
            <a:srgbClr val="ffcc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2349360"/>
            <a:ext cx="647640" cy="108108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360" y="3933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6920" y="3933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93372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445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before It therefore follows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280" y="595008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) and the radius i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04200" y="47242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2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2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7640" y="3933720"/>
            <a:ext cx="230508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1916280"/>
            <a:ext cx="2050920" cy="1655640"/>
          </a:xfrm>
          <a:prstGeom prst="cloudCallout">
            <a:avLst>
              <a:gd name="adj1" fmla="val -40944"/>
              <a:gd name="adj2" fmla="val 737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is sum of all the cons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6360" y="486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4076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-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54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93080" y="537372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6x + 2y - 7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6x + 2y - 7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9280" y="28526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285264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2852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7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33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000" y="3357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3284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7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48560" y="3933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9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+ 1 - -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5092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50920" y="595008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3,-1)  and  radiu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54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6x - 2y - 1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6x - 2y - 1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59640" y="2852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6920" y="285264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852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6720" y="3357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99640" y="3357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3284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48200" y="3933720"/>
            <a:ext cx="30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-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5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+ 1 - 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684360" y="558972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-3,1)  and  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7T09:44:12Z</dcterms:modified>
  <cp:revision>23</cp:revision>
  <dc:subject/>
  <dc:title>Higher Circle</dc:title>
</cp:coreProperties>
</file>